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9857-E99A-40C7-BEE4-670A78C19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09AC-B8FD-4A8F-8053-FFFC3DA88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BE42-EF80-4A7B-B41E-256C845D0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E6A8-9331-4223-A543-8AE2C7CA8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A6C-B226-46ED-BF31-AEBE40A7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E67-1E23-4C8B-9AB2-CCB756C4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956-95BE-4350-B9BD-E41D03AA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1FE-5FFB-45DC-A8A8-983C8896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301C-2AB7-4262-B482-1F936720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DFD0-1CA4-42E3-A943-7B04B563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6D6B-9377-432C-90ED-6D99D097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22A6-A354-4229-8038-E0688AFF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153D-24A6-4358-96E3-B2C1DC8A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FC78-754A-4778-9862-DFD4DFC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3A8D-B9F6-4C25-8881-F130B469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5CD-3394-4A6D-BE1E-EC50258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E313-6874-4C86-8E45-82633882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5383-8409-40AA-AADA-90B27E1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9C0D-261C-48DB-A197-50D99675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B31A-C3D0-4956-91D0-20440804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8DE0-9B1C-487D-991A-B68B1179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249-2232-4CCC-95C2-6B381DE4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FB6-7424-4F88-AAB6-A4A8C5DF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54F-FCBB-4BA8-93F6-391FFA56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A50-04FB-47FC-A810-AA0B52E9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984-0519-4029-AFDA-5F4432B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978-E459-43D9-A6F7-B94AC8A9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0CF-2405-41B1-8498-7160F1DD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4D7D-45FD-4C80-A656-5BD8726ECE34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AFB8-2763-494F-BD44-41A0F9A0ADC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83A2-408F-436F-B47F-4971F92E8C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hapter 9 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990720"/>
          <a:ext cx="8381880" cy="5668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Comic Sans MS"/>
                        </a:rPr>
                        <a:t>Square Ro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Comic Sans MS"/>
                        </a:rPr>
                        <a:t>Tria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Comic Sans MS"/>
                        </a:rPr>
                        <a:t>The Pythagorean Theor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Comic Sans MS"/>
                        </a:rPr>
                        <a:t>Real 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Comic Sans MS"/>
                        </a:rPr>
                        <a:t>Distance and Midpoint Formu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4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6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8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0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1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2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4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5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6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8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0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2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3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4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504080" y="1759680"/>
            <a:ext cx="641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is a triangle called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has three congruent ang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s – 4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96400" y="1759680"/>
            <a:ext cx="761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are the three 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o classify triangles by side leng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s – 5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762840" y="1759680"/>
            <a:ext cx="771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doe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s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– 1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780120" y="1759680"/>
            <a:ext cx="771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do the variable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, b,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tand for in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2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+ b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2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= c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– 2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799200" y="1686240"/>
            <a:ext cx="771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leg lengths of a right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re 10 and 24.  What i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length of the other s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– 3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789480" y="1683360"/>
            <a:ext cx="812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f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= 9 and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= 41, what is the leng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of the third side of a right triang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– 4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51200" y="1836000"/>
            <a:ext cx="88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etermine whether the side length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orm a right triangle given 5, 64, and 6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– 5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448920" y="1759680"/>
            <a:ext cx="837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ole numbers are rational numb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al Numbers – 1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982080" y="1759680"/>
            <a:ext cx="735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 number is rational if its decima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orm does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al Numbers – 2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671840" y="1756800"/>
            <a:ext cx="59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s </a:t>
            </a:r>
            <a:r>
              <a:rPr b="0" lang="en-US" sz="3600" spc="-1" strike="noStrike">
                <a:solidFill>
                  <a:srgbClr val="ffffff"/>
                </a:solidFill>
                <a:latin typeface="Lucida Grande CE"/>
                <a:ea typeface="Lucida Grande CE"/>
              </a:rPr>
              <a:t>⅜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rational or irration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al Numbers – 3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067040" y="1756800"/>
            <a:ext cx="71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are the square roots of 3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quare Roots – 1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28360" y="1756800"/>
            <a:ext cx="61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s √49 rational or irration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al Numbers – 4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828440" y="1762200"/>
            <a:ext cx="593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plete the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using &lt;, &gt;, or =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4√3 ___ 27⁄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al Numbers – 5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06720" y="1759320"/>
            <a:ext cx="8567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ind the slope of the line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points (5, 4) and (8, 1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istance and Midpoint Formulas – 1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48120" y="1680480"/>
            <a:ext cx="8800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is the Midpoint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istance and Midpoint Formulas – 2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48120" y="1756440"/>
            <a:ext cx="8800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is the Distanc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istance and Midpoint Formulas – 3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95480" y="1759320"/>
            <a:ext cx="8800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ind the midpoint of the se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ith endpoints (-1, 3) and (3, 1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istance and Midpoint Formulas – 4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28880" y="1911960"/>
            <a:ext cx="891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ind the distance betw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points (1, 5) and (-2, 2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istance and Midpoint Formulas – 5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850400" y="175680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s 225 a perfect squ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quare Roots– 2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963800" y="1756800"/>
            <a:ext cx="575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pproximate √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quare Roots – 3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725840" y="1756800"/>
            <a:ext cx="60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olve the equation 362 =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quare Roots – 4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189080" y="1756800"/>
            <a:ext cx="68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olve the equation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-15 = 12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quare Roots – 5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499400" y="175968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um of the measure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 triangle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s – 1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486800" y="1683360"/>
            <a:ext cx="62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is a triangle called if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has three acute ang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s – 2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871560" y="176220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angle measures of a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re 40°, 35°, and 105°.  How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s – 3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8:14:28Z</dcterms:created>
  <dc:creator>Philip Bigler</dc:creator>
  <dc:description/>
  <dc:language>en-US</dc:language>
  <cp:lastModifiedBy>Jennifer Karkoska</cp:lastModifiedBy>
  <dcterms:modified xsi:type="dcterms:W3CDTF">2009-06-14T22:43:37Z</dcterms:modified>
  <cp:revision>19</cp:revision>
  <dc:subject/>
  <dc:title>Slide 1</dc:title>
</cp:coreProperties>
</file>